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DD0-D0C9-41D8-930D-055E2209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AD9-8E88-4D66-9664-6B5EBB27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437-D27C-4EB8-BDE6-D222C120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142-58B0-4D33-9390-B725E9DD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DC4-C82C-464B-B87A-1DF8A3AE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609-F5D6-4828-A7BB-0DB2BD58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729-D22F-42DA-91D6-62A40180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DF4-D067-4D86-A7AB-87F0562E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6A3-8FD9-456D-8818-4CF8C1CD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A8B-A8DC-4EA8-94D2-E1EBAE13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0D3-05DC-467B-831E-CA0D3DD5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A29-E255-4355-86BE-D46EE8AD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D80D-F604-4E20-AC95-83F2B7DEF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niards and the Pre-Columbian Civ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360" y="594360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Grace Kou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733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tecs, Incas and May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lived in Central Mexico – Valley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capital city was Tenochtitlan, an unusual city because it had been built in the middle of a lake o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 were polytheistic meaning they believed in many G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brought down by Small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used other tribes as slaves and human sacrifice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leader was Montez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orshiped a god named Quetzacoatl (A pale skinned go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3962160" cy="274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72200" y="4724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s lived on the Mexican cost-Yucat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(They believed in many god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ion did not contain as much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slaves, who could sometimes gain their free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wasn’t just one major city, it would be much harder for the Spanish to tak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8320" y="6095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.uncw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lived in South America, Andes Mountains, Pe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a capital was Cuz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d no written language, but had spoken language (used knots as messag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polytheistic (They believed in many go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a ruler was Atahual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as where a huge civilization, with about 20 million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as had been easily taken over in 1513 by the Spanish and Pizarro because they had been fighting a civil war, a war when two or more groups of people in the same country, are figh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91120" y="1143000"/>
            <a:ext cx="4647960" cy="4141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z was a Spanish  explorer and conquistador (a person who conquers, or they take over by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going back home impossible, he destroyed all but one ship, that he sent back to Cu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raveled with 16 horses and around 500 to 650 men to conquer the Aztecs in 15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ook Montezuma hostage, and Montezuma was killed in a battle soon after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943600" y="609480"/>
            <a:ext cx="221760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7220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usf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was a conquistador and a Spanish explo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raveled with about 27 horses, and about 180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kidnapped  Atahualpa and held him for a ransom because he refused to accept Christianity, and the king of Spain as his ru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demanded that a room be filled with silver and gold and then Atahualpa would be retur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tricked the Incas after they presented the ransom, and Atahualpa was soo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210348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15000" y="4114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usf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oday (2011) almost all of Central and South America are speaking Spa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a majority of people in Central and South America are no longer worshiping their native gods, and are now Christ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Maya, Inca and Aztec tradition and culture have disappeared forever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80880"/>
            <a:ext cx="4648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24:33Z</dcterms:created>
  <dc:creator>jklib</dc:creator>
  <dc:description/>
  <dc:language>en-US</dc:language>
  <cp:lastModifiedBy>jklib</cp:lastModifiedBy>
  <dcterms:modified xsi:type="dcterms:W3CDTF">2011-11-29T14:29:20Z</dcterms:modified>
  <cp:revision>16</cp:revision>
  <dc:subject/>
  <dc:title>The Spaniards and the Pre-Columbian Civilization </dc:title>
</cp:coreProperties>
</file>